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BDB65-12B6-4354-B233-5C57A8543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94CA0-DC52-4A3F-8F48-885052EAB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D00E8-10CD-40B4-8A89-C49BA2215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B04E2-9A78-40E2-9989-D962C8B27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1B97E-8A1A-4718-8039-8B252D5E2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6F268-E450-4459-A29C-F01FD81A8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5FE48-8F37-42E5-B8B7-6BA46126F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CBF22-D566-45D9-9CD3-407DCCAA1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ED881-6E94-4CF2-981A-16132F617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84C7F-7157-4A8C-BA2A-EBB1DC4FB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875E2-5ABD-46E2-89FE-7BE59E06D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BB8C6-5605-4EAC-9AC4-7F6C48C12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76FD3-94BA-40A9-9BA3-EABD87B31258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mailto:mail@giardinodimarco.it" TargetMode="External"/><Relationship Id="rId2" Type="http://schemas.openxmlformats.org/officeDocument/2006/relationships/hyperlink" Target="http://www.giardinodimarco.it/" TargetMode="External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96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333399"/>
                </a:solidFill>
                <a:latin typeface="Arial"/>
              </a:rPr>
              <a:t>Rifiuti: che far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2997000"/>
            <a:ext cx="6800760" cy="26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99"/>
                </a:solidFill>
                <a:latin typeface="Arial"/>
              </a:rPr>
              <a:t>Pio Russo Krau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99"/>
                </a:solidFill>
                <a:latin typeface="Arial"/>
              </a:rPr>
              <a:t>Associazione Marco Mascagna onl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99"/>
                </a:solidFill>
                <a:latin typeface="Arial"/>
              </a:rPr>
              <a:t>Responsabile del Centro di Documentazione e Ricerca sull’ Ambiente e la Salute ASL Napoli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8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ff"/>
                </a:solidFill>
                <a:latin typeface="Arial"/>
              </a:rPr>
              <a:t>Recupero macchinar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880" y="1268280"/>
            <a:ext cx="876312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38"/>
              </a:spcBef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333399"/>
                </a:solidFill>
                <a:latin typeface="Times New Roman"/>
              </a:rPr>
              <a:t>La Xerox Corporation Europe recupera le vecchie fotocopiatrici: oltre il 95% dei materiali viene riutilizzato o riciclato, con un risparmio di 76 milioni di dollari nel solo anno 20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38"/>
              </a:spcBef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333399"/>
                </a:solidFill>
                <a:latin typeface="Times New Roman"/>
              </a:rPr>
              <a:t>Recupero di vecchi computer per utilizzarli come terminal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38"/>
              </a:spcBef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333399"/>
                </a:solidFill>
                <a:latin typeface="Times New Roman"/>
              </a:rPr>
              <a:t>Raccolta di arredi e macchinari, aggiusto o recupero, vendita nel mercatino del recupero (Trento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ff"/>
                </a:solidFill>
                <a:latin typeface="Arial"/>
              </a:rPr>
              <a:t>2° Raccolta differenzi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8000" y="1197000"/>
            <a:ext cx="84358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3399"/>
                </a:solidFill>
                <a:latin typeface="Times New Roman"/>
              </a:rPr>
              <a:t>La normativa italiana (</a:t>
            </a:r>
            <a:r>
              <a:rPr b="1" lang="de-DE" sz="2800" spc="-1" strike="noStrike">
                <a:solidFill>
                  <a:srgbClr val="333399"/>
                </a:solidFill>
                <a:latin typeface="Times New Roman"/>
              </a:rPr>
              <a:t>Decreto Legislativo 152/2006 e Legge 296/2006) </a:t>
            </a:r>
            <a:r>
              <a:rPr b="1" lang="it-IT" sz="2800" spc="-1" strike="noStrike">
                <a:solidFill>
                  <a:srgbClr val="333399"/>
                </a:solidFill>
                <a:latin typeface="Times New Roman"/>
              </a:rPr>
              <a:t>fissa i seguenti obiettiv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3399"/>
                </a:solidFill>
                <a:latin typeface="Times New Roman"/>
              </a:rPr>
              <a:t>anno 2008  45%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3399"/>
                </a:solidFill>
                <a:latin typeface="Times New Roman"/>
              </a:rPr>
              <a:t>anno 2009  5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3399"/>
                </a:solidFill>
                <a:latin typeface="Times New Roman"/>
              </a:rPr>
              <a:t>anno 2011  6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3399"/>
                </a:solidFill>
                <a:latin typeface="Times New Roman"/>
              </a:rPr>
              <a:t>anno 2012  65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3399"/>
                </a:solidFill>
                <a:latin typeface="Times New Roman"/>
              </a:rPr>
              <a:t>La raccolta porta a porta è più efficace, più efficiente e crea maggiori posti di lavoro (50% in più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3399"/>
                </a:solidFill>
                <a:latin typeface="Times New Roman"/>
              </a:rPr>
              <a:t>costo raccolta con contenitori 57-70 euro/a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Times New Roman"/>
              </a:rPr>
              <a:t>costo raccolta con il porta a porta 57-60/a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(Fonte CCS 200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95280" y="134100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333399"/>
                </a:solidFill>
                <a:latin typeface="Times New Roman"/>
              </a:rPr>
              <a:t>San Francis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23640" y="220464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333399"/>
                </a:solidFill>
                <a:latin typeface="Times New Roman"/>
              </a:rPr>
              <a:t>Popolazione = 850.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333399"/>
                </a:solidFill>
                <a:latin typeface="Times New Roman"/>
              </a:rPr>
              <a:t>alta densità di popolazi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333399"/>
                </a:solidFill>
                <a:latin typeface="Times New Roman"/>
              </a:rPr>
              <a:t>popolazione che parla tre lingu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333399"/>
                </a:solidFill>
                <a:latin typeface="Times New Roman"/>
              </a:rPr>
              <a:t>Oltre 50% raccolta differenziata nel 2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333399"/>
                </a:solidFill>
                <a:latin typeface="Times New Roman"/>
              </a:rPr>
              <a:t>63% raccolta differenziata entro nel 200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333399"/>
                </a:solidFill>
                <a:latin typeface="Times New Roman"/>
              </a:rPr>
              <a:t>75% raccolta differenziata entro il 2010 (obiettiv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333399"/>
                </a:solidFill>
                <a:latin typeface="Times New Roman"/>
              </a:rPr>
              <a:t>100% entro il 2020 – Zero Rifiut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404640"/>
            <a:ext cx="835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ff"/>
                </a:solidFill>
                <a:latin typeface="Arial"/>
              </a:rPr>
              <a:t>2° Raccolta differenzi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ff"/>
                </a:solidFill>
                <a:latin typeface="Arial"/>
              </a:rPr>
              <a:t>Raccolta differenziata nella municipalità Japigia a Bar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333399"/>
                </a:solidFill>
                <a:latin typeface="Times New Roman"/>
              </a:rPr>
              <a:t>33.000 abitanti,  densità 1900 ab/kmq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333399"/>
                </a:solidFill>
                <a:latin typeface="Times New Roman"/>
              </a:rPr>
              <a:t>% raccolta differenziata con cassonetti 19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333399"/>
                </a:solidFill>
                <a:latin typeface="Times New Roman"/>
              </a:rPr>
              <a:t>% rd col porta a porta (2006) 4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333399"/>
                </a:solidFill>
                <a:latin typeface="Times New Roman"/>
              </a:rPr>
              <a:t>% rd col porta a porta (2007) 5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333399"/>
                </a:solidFill>
                <a:latin typeface="Times New Roman"/>
              </a:rPr>
              <a:t>Tempo occorrente per l´organizzazione 1 an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250560" y="549360"/>
            <a:ext cx="85690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ff"/>
                </a:solidFill>
                <a:latin typeface="Arial"/>
              </a:rPr>
              <a:t>AUMENTO DELLA RACCOLTA DIFFERENZIATA NEI COMUNI DEL CONSORZIO DI PRIULA (VENETO) GRAZIE AL SISTERMA PORTA A PORTA</a:t>
            </a:r>
            <a:r>
              <a:rPr b="1" lang="it-IT" sz="3200" spc="-1" strike="noStrike">
                <a:solidFill>
                  <a:srgbClr val="0033c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228600" y="1676520"/>
            <a:ext cx="9144000" cy="48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0000ff"/>
                </a:solidFill>
                <a:latin typeface="Arial"/>
              </a:rPr>
              <a:t>La raccolta differenziata in Ital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333399"/>
                </a:solidFill>
                <a:latin typeface="Times New Roman"/>
              </a:rPr>
              <a:t>In 1830 Comuni (23% del totale del comuni italiani) la raccolta differenziata supera il 5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333399"/>
                </a:solidFill>
                <a:latin typeface="Times New Roman"/>
              </a:rPr>
              <a:t>In 200 comuni si supera il 7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333399"/>
                </a:solidFill>
                <a:latin typeface="Times New Roman"/>
              </a:rPr>
              <a:t>Il consorzio Priula è al 78% di RD, la provincia di Treviso è al 67%, quella di Novara al 61%, di Trento al 52%, Alto Adige al 5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ff"/>
                </a:solidFill>
                <a:latin typeface="Arial"/>
              </a:rPr>
              <a:t>3° Impianti di compostaggi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rcRect l="0" t="16598" r="0" b="0"/>
          <a:stretch/>
        </p:blipFill>
        <p:spPr>
          <a:xfrm>
            <a:off x="1332000" y="2708280"/>
            <a:ext cx="6634080" cy="380988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324000" y="1484280"/>
            <a:ext cx="842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3399"/>
                </a:solidFill>
                <a:latin typeface="Times New Roman"/>
              </a:rPr>
              <a:t>Sono impianti che trasformano la frazione umida dei rifiuti in concime (compo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ff"/>
                </a:solidFill>
                <a:latin typeface="Arial"/>
              </a:rPr>
              <a:t>4° Impianti di deselezio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3399"/>
                </a:solidFill>
                <a:latin typeface="Times New Roman"/>
              </a:rPr>
              <a:t>Sono impianti che cercano di separare le diverse frazioni merceologiche (metalli, cellulosa, organico, plastiche riciclabili, plastiche non riciclabili, inerti) presenti nei rifiuti indifferenziati Possono produrre cdr (combustibile da rifiuto) o materiale inerte da utilizzare in edilizia (impianti T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900" spc="-1" strike="noStrike">
                <a:solidFill>
                  <a:srgbClr val="0000ff"/>
                </a:solidFill>
                <a:latin typeface="Arial"/>
              </a:rPr>
              <a:t>E gli inceneritori?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600" y="117468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333399"/>
                </a:solidFill>
                <a:latin typeface="Times New Roman"/>
              </a:rPr>
              <a:t>Peggiorano l´inquinamento atmosferico (10% del PM</a:t>
            </a:r>
            <a:r>
              <a:rPr b="1" lang="de-DE" sz="2600" spc="-1" strike="noStrike" baseline="-25000">
                <a:solidFill>
                  <a:srgbClr val="333399"/>
                </a:solidFill>
                <a:latin typeface="Times New Roman"/>
              </a:rPr>
              <a:t>10</a:t>
            </a:r>
            <a:r>
              <a:rPr b="1" lang="de-DE" sz="2600" spc="-1" strike="noStrike">
                <a:solidFill>
                  <a:srgbClr val="333399"/>
                </a:solidFill>
                <a:latin typeface="Times New Roman"/>
              </a:rPr>
              <a:t> ) che attualmente provoca in Italia 30.000 - 40.000 morti all´anno (OMS 2005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333399"/>
                </a:solidFill>
                <a:latin typeface="Times New Roman"/>
              </a:rPr>
              <a:t>Hanno tempi lunghi di costruzione, costano molto e danno poca occupazio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333399"/>
                </a:solidFill>
                <a:latin typeface="Times New Roman"/>
              </a:rPr>
              <a:t>Non risolvono il problema discariche (le ceneri e i fanghi di depurazione dei fumi necessitano di discarich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333399"/>
                </a:solidFill>
                <a:latin typeface="Times New Roman"/>
              </a:rPr>
              <a:t>Danno poca energia (bruciando 1Kg di plastica si ricavano in media un terzo dell‘energia che si risparmia riciclandola) e costa più di petrolio, metano, vento, idroelettrico, geotermico e solare a concentrazio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333399"/>
                </a:solidFill>
                <a:latin typeface="Times New Roman"/>
              </a:rPr>
              <a:t>Per funzionare bene devono bruciare plastica, o materiale cellulosico che viene sottratto al riciclaggi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5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ff"/>
                </a:solidFill>
                <a:latin typeface="Arial"/>
              </a:rPr>
              <a:t>Sì, ma altri paesi hanno gli inceneritori e così hanno risolto il problema</a:t>
            </a:r>
            <a:br>
              <a:rPr sz="3600"/>
            </a:br>
            <a:r>
              <a:rPr b="1" lang="de-DE" sz="3600" spc="-1" strike="noStrike">
                <a:solidFill>
                  <a:srgbClr val="0000ff"/>
                </a:solidFill>
                <a:latin typeface="Arial"/>
              </a:rPr>
              <a:t>Ma è proprio vero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28240" y="2133720"/>
            <a:ext cx="8915400" cy="45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spcAft>
                <a:spcPts val="1001"/>
              </a:spcAft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333399"/>
                </a:solidFill>
                <a:latin typeface="Times New Roman"/>
              </a:rPr>
              <a:t>Austria: totale rifiuti riciclati 64%, inceneriti 13%, in discarica 23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spcAft>
                <a:spcPts val="1001"/>
              </a:spcAft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333399"/>
                </a:solidFill>
                <a:latin typeface="Times New Roman"/>
              </a:rPr>
              <a:t>Germania: totale rifiuti riciclati 71%, inceneriti 16%, in discarica 14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spcAft>
                <a:spcPts val="1001"/>
              </a:spcAft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333399"/>
                </a:solidFill>
                <a:latin typeface="Times New Roman"/>
              </a:rPr>
              <a:t>Olanda totale rifiuti riciclati 62%, inceneriti 29%, in discarica 8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Fonte: European Topic Centre on Resource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and Waste Management 20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0000ff"/>
                </a:solidFill>
                <a:latin typeface="Arial"/>
              </a:rPr>
              <a:t>Il problema rifiut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-360" y="1219320"/>
            <a:ext cx="89154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Times New Roman"/>
              </a:rPr>
              <a:t>I rifiuti aumentano sempre piú: 1973 270 Kg/ab, 2004 533 Kg/a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Times New Roman"/>
              </a:rPr>
              <a:t>Sono sempre piú indistruttibili: carta 3-8 mesi, lattina 50 anni, bottiglia di plastica 300 anni, polistirolo 1000 anni, card 1000 an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Times New Roman"/>
              </a:rPr>
              <a:t>La maggioranza delle risorse che oggi utiliziamo non sono rinnovabili: tempo di esaurimento dei giacimenti conosciuti: stagno e zinco 30 anni, piombo 40 anni, rame 50 anni, petrolio 50 ann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Times New Roman"/>
              </a:rPr>
              <a:t>I rifiuti se non gestiti bene inquinano il suolo, le risorse idriche e l´a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ff"/>
                </a:solidFill>
                <a:latin typeface="Arial"/>
              </a:rPr>
              <a:t>Facciamo due calcol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71380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Times New Roman"/>
              </a:rPr>
              <a:t>Capacità dell´inceneritore di Acerra 720.000 tonnellate (più Santa Maria La Fossa e Salerno 1.700.000 tonnelat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Times New Roman"/>
              </a:rPr>
              <a:t>Rifiuti prodotti in Campania 2,8 milioni di 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333399"/>
                </a:solidFill>
                <a:latin typeface="Times New Roman"/>
              </a:rPr>
              <a:t>40% umido, </a:t>
            </a:r>
            <a:r>
              <a:rPr b="1" lang="it-IT" sz="2400" spc="-1" strike="noStrike">
                <a:solidFill>
                  <a:srgbClr val="333399"/>
                </a:solidFill>
                <a:latin typeface="Times New Roman"/>
              </a:rPr>
              <a:t>10% inerte (vetro 6%, metalli 3%, sabbia 1%), carta 20%, plastica 10%, stracci 4%, legno 2%, sottovaglio 9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Times New Roman"/>
              </a:rPr>
              <a:t>Rifiuti bruciabili: 1.400.000 tonnel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Times New Roman"/>
              </a:rPr>
              <a:t>60% entro il 2011: cdr prodotto 560.000 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Times New Roman"/>
              </a:rPr>
              <a:t>raccolta differenziata al 65%: cdr prodotto: 500 t     (se si realizza l’ob. UE 20% riduzione: 400 t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Times New Roman"/>
              </a:rPr>
              <a:t>Ma poiché c´è l´emergenza il Piano Rifiuti del Commissariato ha derogato a questi limiti fissando un obiettivo al 50% per il 2011 calcolando come RD anche la frazione umida separata negli impianti CD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-185760" y="-204840"/>
            <a:ext cx="9515520" cy="72676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 flipH="1">
            <a:off x="8458200" y="4038480"/>
            <a:ext cx="5335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8458200" y="5638680"/>
            <a:ext cx="5335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086600" y="2133720"/>
            <a:ext cx="1447920" cy="16761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ff"/>
                </a:solidFill>
                <a:latin typeface="Times New Roman"/>
              </a:rPr>
              <a:t>CIP 6: la tassa per le energie rinnovabili che finanzia le non rinnovabil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333399"/>
                </a:solidFill>
                <a:latin typeface="Times New Roman"/>
              </a:rPr>
              <a:t>percentuale dei fondi CIP 6 versati nel 2006 per finanziare diverse fonti di energ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333399"/>
                </a:solidFill>
                <a:latin typeface="Times New Roman"/>
              </a:rPr>
              <a:t>energia solare …………………   0,004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333399"/>
                </a:solidFill>
                <a:latin typeface="Times New Roman"/>
              </a:rPr>
              <a:t>eolico……….……………………   3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333399"/>
                </a:solidFill>
                <a:latin typeface="Times New Roman"/>
              </a:rPr>
              <a:t>geotermia ………………………   4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333399"/>
                </a:solidFill>
                <a:latin typeface="Times New Roman"/>
              </a:rPr>
              <a:t>idroelettrico ……………………   4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333399"/>
                </a:solidFill>
                <a:latin typeface="Times New Roman"/>
              </a:rPr>
              <a:t>rifiuti urbani ………………….. 21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333399"/>
                </a:solidFill>
                <a:latin typeface="Times New Roman"/>
              </a:rPr>
              <a:t>rifiuti e risparmi industriali….. 34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333399"/>
                </a:solidFill>
                <a:latin typeface="Times New Roman"/>
              </a:rPr>
              <a:t>rifiuti bituminosi ………….….. 34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ff"/>
                </a:solidFill>
                <a:latin typeface="Arial"/>
              </a:rPr>
              <a:t>In conclusi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-360" y="1052280"/>
            <a:ext cx="89154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3399"/>
                </a:solidFill>
                <a:latin typeface="Arial"/>
              </a:rPr>
              <a:t>Produrre meno rifiuti è possibile ed economicamente conveni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3399"/>
                </a:solidFill>
                <a:latin typeface="Arial"/>
              </a:rPr>
              <a:t>La raccolta differenziata se ben organizzata e spiegata ai cittadini puó portare a riciclare anche il 70-80% dei rifiu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3399"/>
                </a:solidFill>
                <a:latin typeface="Arial"/>
              </a:rPr>
              <a:t>I materiali che non possono essere riciclati o riutilizzare non dovrebbero essere piú prodotti e dovrebbero sostituiti con altr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3399"/>
                </a:solidFill>
                <a:latin typeface="Arial"/>
              </a:rPr>
              <a:t>Gli inceneritori non sono la soluzione del problema, possono “fare concorrenza” alla raccolta differenziata e al riciclaggio. In ogni caso in una corretta gestione dei rifiuti non dovrebbero avere una capacità superiore al 15-20% dei rifiuti prodott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ff"/>
                </a:solidFill>
                <a:latin typeface="Arial"/>
              </a:rPr>
              <a:t>Graz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39640" y="1484280"/>
            <a:ext cx="8136000" cy="17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Pio Russo Krau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mail@giardinodimarco.it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www.giardinodimarco.it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395280" y="333000"/>
            <a:ext cx="835344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100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333399"/>
                </a:solidFill>
                <a:latin typeface="Arial"/>
              </a:rPr>
              <a:t>ogni anno muoiono in Italia tra le </a:t>
            </a:r>
            <a:r>
              <a:rPr b="1" lang="it-IT" sz="3200" spc="-1" strike="noStrike">
                <a:solidFill>
                  <a:srgbClr val="ff0000"/>
                </a:solidFill>
                <a:latin typeface="Arial"/>
              </a:rPr>
              <a:t>30.000</a:t>
            </a:r>
            <a:r>
              <a:rPr b="1" lang="it-IT" sz="3200" spc="-1" strike="noStrike">
                <a:solidFill>
                  <a:srgbClr val="333399"/>
                </a:solidFill>
                <a:latin typeface="Arial"/>
              </a:rPr>
              <a:t> e le </a:t>
            </a:r>
            <a:r>
              <a:rPr b="1" lang="it-IT" sz="3200" spc="-1" strike="noStrike">
                <a:solidFill>
                  <a:srgbClr val="ff0000"/>
                </a:solidFill>
                <a:latin typeface="Arial"/>
              </a:rPr>
              <a:t>40.000</a:t>
            </a:r>
            <a:r>
              <a:rPr b="1" lang="it-IT" sz="3200" spc="-1" strike="noStrike">
                <a:solidFill>
                  <a:srgbClr val="333399"/>
                </a:solidFill>
                <a:latin typeface="Arial"/>
              </a:rPr>
              <a:t> persone a causa dell’inquinamento</a:t>
            </a:r>
            <a:r>
              <a:rPr b="1" lang="de-DE" sz="3200" spc="-1" strike="noStrike">
                <a:solidFill>
                  <a:srgbClr val="333399"/>
                </a:solidFill>
                <a:latin typeface="Arial"/>
              </a:rPr>
              <a:t> atmosferico </a:t>
            </a:r>
            <a:r>
              <a:rPr b="0" lang="de-DE" sz="3200" spc="-1" strike="noStrike">
                <a:solidFill>
                  <a:srgbClr val="333399"/>
                </a:solidFill>
                <a:latin typeface="Arial"/>
              </a:rPr>
              <a:t>(OMS 200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100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333399"/>
                </a:solidFill>
                <a:latin typeface="Arial"/>
              </a:rPr>
              <a:t>L´inquinamento atmosferico determina </a:t>
            </a:r>
            <a:r>
              <a:rPr b="1" lang="de-DE" sz="3200" spc="-1" strike="noStrike">
                <a:solidFill>
                  <a:srgbClr val="ff0000"/>
                </a:solidFill>
                <a:latin typeface="Arial"/>
              </a:rPr>
              <a:t>22 -23 milioni</a:t>
            </a:r>
            <a:r>
              <a:rPr b="1" lang="de-DE" sz="3200" spc="-1" strike="noStrike">
                <a:solidFill>
                  <a:srgbClr val="333399"/>
                </a:solidFill>
                <a:latin typeface="Arial"/>
              </a:rPr>
              <a:t> di giornate di assenza per malattia </a:t>
            </a:r>
            <a:r>
              <a:rPr b="0" lang="de-DE" sz="3200" spc="-1" strike="noStrike">
                <a:solidFill>
                  <a:srgbClr val="333399"/>
                </a:solidFill>
                <a:latin typeface="Arial"/>
              </a:rPr>
              <a:t>(MISA-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100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333399"/>
                </a:solidFill>
                <a:latin typeface="Arial"/>
              </a:rPr>
              <a:t>CO2 in era pre industriale </a:t>
            </a:r>
            <a:r>
              <a:rPr b="1" lang="it-IT" sz="3200" spc="-1" strike="noStrike">
                <a:solidFill>
                  <a:srgbClr val="ff0000"/>
                </a:solidFill>
                <a:latin typeface="Arial"/>
              </a:rPr>
              <a:t>280 ppm</a:t>
            </a:r>
            <a:r>
              <a:rPr b="1" lang="it-IT" sz="3200" spc="-1" strike="noStrike">
                <a:solidFill>
                  <a:srgbClr val="333399"/>
                </a:solidFill>
                <a:latin typeface="Arial"/>
              </a:rPr>
              <a:t>, 1990 </a:t>
            </a:r>
            <a:r>
              <a:rPr b="1" lang="it-IT" sz="3200" spc="-1" strike="noStrike">
                <a:solidFill>
                  <a:srgbClr val="ff0000"/>
                </a:solidFill>
                <a:latin typeface="Arial"/>
              </a:rPr>
              <a:t>353 ppm</a:t>
            </a:r>
            <a:r>
              <a:rPr b="1" lang="it-IT" sz="3200" spc="-1" strike="noStrike">
                <a:solidFill>
                  <a:srgbClr val="333399"/>
                </a:solidFill>
                <a:latin typeface="Arial"/>
              </a:rPr>
              <a:t>, 1999 </a:t>
            </a:r>
            <a:r>
              <a:rPr b="1" lang="it-IT" sz="3200" spc="-1" strike="noStrike">
                <a:solidFill>
                  <a:srgbClr val="ff0000"/>
                </a:solidFill>
                <a:latin typeface="Arial"/>
              </a:rPr>
              <a:t>368 ppm</a:t>
            </a:r>
            <a:r>
              <a:rPr b="1" lang="it-IT" sz="3200" spc="-1" strike="noStrike">
                <a:solidFill>
                  <a:srgbClr val="333399"/>
                </a:solidFill>
                <a:latin typeface="Arial"/>
              </a:rPr>
              <a:t>, 2004 </a:t>
            </a:r>
            <a:r>
              <a:rPr b="1" lang="it-IT" sz="3200" spc="-1" strike="noStrike">
                <a:solidFill>
                  <a:srgbClr val="ff0000"/>
                </a:solidFill>
                <a:latin typeface="Arial"/>
              </a:rPr>
              <a:t>374 ppm</a:t>
            </a:r>
            <a:r>
              <a:rPr b="1" lang="it-IT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333399"/>
                </a:solidFill>
                <a:latin typeface="Arial"/>
              </a:rPr>
              <a:t>(IPP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100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333399"/>
                </a:solidFill>
                <a:latin typeface="Arial"/>
              </a:rPr>
              <a:t>L’uomo ha distrutto il </a:t>
            </a:r>
            <a:r>
              <a:rPr b="1" lang="it-IT" sz="3200" spc="-1" strike="noStrike">
                <a:solidFill>
                  <a:srgbClr val="ff0000"/>
                </a:solidFill>
                <a:latin typeface="Arial"/>
              </a:rPr>
              <a:t>42 %</a:t>
            </a:r>
            <a:r>
              <a:rPr b="1" lang="it-IT" sz="3200" spc="-1" strike="noStrike">
                <a:solidFill>
                  <a:srgbClr val="333399"/>
                </a:solidFill>
                <a:latin typeface="Arial"/>
              </a:rPr>
              <a:t> delle foreste del pianeta Terra </a:t>
            </a:r>
            <a:r>
              <a:rPr b="0" lang="it-IT" sz="3200" spc="-1" strike="noStrike">
                <a:solidFill>
                  <a:srgbClr val="333399"/>
                </a:solidFill>
                <a:latin typeface="Arial"/>
              </a:rPr>
              <a:t>(FA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85690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ff"/>
                </a:solidFill>
                <a:latin typeface="Arial"/>
              </a:rPr>
              <a:t>Il ciclo della materia mosso dal flusso di energia del so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68360" y="2781360"/>
            <a:ext cx="3168720" cy="1439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000000"/>
                </a:solidFill>
                <a:latin typeface="Times New Roman"/>
              </a:rPr>
              <a:t>Produttor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000000"/>
                </a:solidFill>
                <a:latin typeface="Times New Roman"/>
              </a:rPr>
              <a:t>vegetal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859280" y="2852640"/>
            <a:ext cx="3960720" cy="129708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000000"/>
                </a:solidFill>
                <a:latin typeface="Times New Roman"/>
              </a:rPr>
              <a:t>Consumatori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000000"/>
                </a:solidFill>
                <a:latin typeface="Times New Roman"/>
              </a:rPr>
              <a:t>(Erbivori → Carnivori)</a:t>
            </a:r>
            <a:r>
              <a:rPr b="0" lang="de-DE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851280" y="3500280"/>
            <a:ext cx="720720" cy="0"/>
          </a:xfrm>
          <a:prstGeom prst="line">
            <a:avLst/>
          </a:prstGeom>
          <a:ln w="73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43280" y="4508640"/>
            <a:ext cx="3672000" cy="100800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000000"/>
                </a:solidFill>
                <a:latin typeface="Times New Roman"/>
              </a:rPr>
              <a:t>Decompositor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6156360" y="4292640"/>
            <a:ext cx="504720" cy="431640"/>
          </a:xfrm>
          <a:prstGeom prst="line">
            <a:avLst/>
          </a:prstGeom>
          <a:ln w="69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 flipV="1">
            <a:off x="2771280" y="4292280"/>
            <a:ext cx="360360" cy="431640"/>
          </a:xfrm>
          <a:prstGeom prst="line">
            <a:avLst/>
          </a:prstGeom>
          <a:ln w="69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55640" y="1052640"/>
            <a:ext cx="1584360" cy="12967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000000"/>
                </a:solidFill>
                <a:latin typeface="Times New Roman"/>
              </a:rPr>
              <a:t>So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684360" y="2276640"/>
            <a:ext cx="14256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971640" y="2421000"/>
            <a:ext cx="7128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32000" y="24922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19280" y="24922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908000" y="2492280"/>
            <a:ext cx="14292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124000" y="2276640"/>
            <a:ext cx="28728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340000" y="2060640"/>
            <a:ext cx="43164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95280" y="5589720"/>
            <a:ext cx="856944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100" spc="-1" strike="noStrike">
                <a:solidFill>
                  <a:srgbClr val="ff0000"/>
                </a:solidFill>
                <a:latin typeface="Times New Roman"/>
              </a:rPr>
              <a:t>In natura non esistono rifiuti perché questi sono risorse per altri elementi dell’ecosistema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50560" y="189000"/>
            <a:ext cx="87138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ff"/>
                </a:solidFill>
                <a:latin typeface="Arial"/>
              </a:rPr>
              <a:t>I cicli biogeochimici: ciclo del carbon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187280" y="855720"/>
            <a:ext cx="7056720" cy="592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78920" y="333000"/>
            <a:ext cx="8713800" cy="863640"/>
          </a:xfrm>
          <a:prstGeom prst="rect">
            <a:avLst/>
          </a:prstGeom>
          <a:noFill/>
          <a:ln w="0">
            <a:noFill/>
          </a:ln>
        </p:spPr>
        <p:txBody>
          <a:bodyPr lIns="54000" rIns="54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ff"/>
                </a:solidFill>
                <a:latin typeface="Arial"/>
              </a:rPr>
              <a:t>Siamo così intelligenti ma agiamo dimenticando che</a:t>
            </a: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79280" y="1412640"/>
            <a:ext cx="87854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spcAft>
                <a:spcPts val="649"/>
              </a:spcAft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333399"/>
                </a:solidFill>
                <a:latin typeface="Times New Roman"/>
              </a:rPr>
              <a:t>il nostro pianeta è un sistema finito, con risorse e capacità di depurazione e di tolleranza limitate: non si può crescere sempre più, produrre sempre più, inquinare sempre più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spcAft>
                <a:spcPts val="649"/>
              </a:spcAft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333399"/>
                </a:solidFill>
                <a:latin typeface="Times New Roman"/>
              </a:rPr>
              <a:t>ogni cosa va a finire da qualche parte (nulla si crea e si distrugge): non facciamo come i bambini che pensano “quello che non vedo non esiste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spcAft>
                <a:spcPts val="649"/>
              </a:spcAft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333399"/>
                </a:solidFill>
                <a:latin typeface="Times New Roman"/>
              </a:rPr>
              <a:t>la natura funziona a ciclo chiuso di materia e questo rende possibile la perpetuazione della vita; la nostra società funziona a ciclo aperto: è inevitabile che le risorse diminuiscano sempre più e i rifiuti si accumulino sempre più e che il sistema vada in cris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78920" y="333000"/>
            <a:ext cx="8713800" cy="863640"/>
          </a:xfrm>
          <a:prstGeom prst="rect">
            <a:avLst/>
          </a:prstGeom>
          <a:noFill/>
          <a:ln w="0">
            <a:noFill/>
          </a:ln>
        </p:spPr>
        <p:txBody>
          <a:bodyPr lIns="54000" rIns="54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ff"/>
                </a:solidFill>
                <a:latin typeface="Arial"/>
              </a:rPr>
              <a:t>Siamo così intelligenti ma agiamo dimenticando che</a:t>
            </a: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87854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75"/>
              </a:spcBef>
              <a:spcAft>
                <a:spcPts val="675"/>
              </a:spcAft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700" spc="-1" strike="noStrike">
                <a:solidFill>
                  <a:srgbClr val="333399"/>
                </a:solidFill>
                <a:latin typeface="Times New Roman"/>
              </a:rPr>
              <a:t>Tutto è collegato, ogni cosa è in relazione e dipende da altre: smettiamola di comportarci come l’apprendista stregone altrimenti i colpi di boomerang saranno sempre più frequenti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spcAft>
                <a:spcPts val="675"/>
              </a:spcAft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700" spc="-1" strike="noStrike">
                <a:solidFill>
                  <a:srgbClr val="333399"/>
                </a:solidFill>
                <a:latin typeface="Times New Roman"/>
              </a:rPr>
              <a:t>i 5 miliardi di persone che fin’ora hanno vissuto consumando poco, pochissimo o quasi niente, non sono disposti a vivere sempre così. Se si mettono a vivere come noi il petrolio si esaurisce in 6-8 anni e l’inquinamento raggiunge livelli elevatissimi: </a:t>
            </a:r>
            <a:r>
              <a:rPr b="1" lang="it-IT" sz="2700" spc="-1" strike="noStrike">
                <a:solidFill>
                  <a:srgbClr val="ff0000"/>
                </a:solidFill>
                <a:latin typeface="Times New Roman"/>
              </a:rPr>
              <a:t>smettiamola di vivere secondo un modello che non può essere generalizzato a tutti gli abitanti del mondo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ff"/>
                </a:solidFill>
                <a:latin typeface="Arial"/>
              </a:rPr>
              <a:t>Un po’ di stor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8642160" cy="595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la UE </a:t>
            </a:r>
            <a:r>
              <a:rPr b="1" lang="it-IT" sz="2400" spc="-1" strike="noStrike">
                <a:solidFill>
                  <a:srgbClr val="333399"/>
                </a:solidFill>
                <a:latin typeface="Times New Roman"/>
              </a:rPr>
              <a:t>impone di gestire i rifiuti recuperando materia ed energia e di inviare in discarica solo rifiuti non putrescibi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La Campania </a:t>
            </a:r>
            <a:r>
              <a:rPr b="1" lang="it-IT" sz="2400" spc="-1" strike="noStrike">
                <a:solidFill>
                  <a:srgbClr val="333399"/>
                </a:solidFill>
                <a:latin typeface="Times New Roman"/>
              </a:rPr>
              <a:t>è in grande ritardo; la camorra sversa rifiuti tossici in discariche autorizzate e abus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Giunta Rastrelli </a:t>
            </a:r>
            <a:r>
              <a:rPr b="1" lang="it-IT" sz="2400" spc="-1" strike="noStrike">
                <a:solidFill>
                  <a:srgbClr val="333399"/>
                </a:solidFill>
                <a:latin typeface="Times New Roman"/>
              </a:rPr>
              <a:t>(1997): approva il piano rifiuti che prevede 2 megainceneritori, impianti di compostaggio, raccolta differenziata per una capacità superiore ai rifiuti prodot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Giunta Losco</a:t>
            </a:r>
            <a:r>
              <a:rPr b="1" lang="it-IT" sz="2400" spc="-1" strike="noStrike">
                <a:solidFill>
                  <a:srgbClr val="333399"/>
                </a:solidFill>
                <a:latin typeface="Times New Roman"/>
              </a:rPr>
              <a:t>: gestisce la gara che affida alla Fibe il ciclo dei rifiuti. La gara non rispetta la leg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Giunta Bassolino</a:t>
            </a:r>
            <a:r>
              <a:rPr b="1" lang="it-IT" sz="2400" spc="-1" strike="noStrike">
                <a:solidFill>
                  <a:srgbClr val="333399"/>
                </a:solidFill>
                <a:latin typeface="Times New Roman"/>
              </a:rPr>
              <a:t>: si costruisce l’inceneritore di Acerra, 7 impianti cdr (combustibile da rifiuto), si assorbono/assumono migliaia di lavoratori, si chiedono costose consulen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Times New Roman"/>
              </a:rPr>
              <a:t>Gli impianti cdr producono ecoballe e fos non stabilizz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Altri Commissari di Governo</a:t>
            </a:r>
            <a:r>
              <a:rPr b="1" lang="it-IT" sz="2400" spc="-1" strike="noStrike">
                <a:solidFill>
                  <a:srgbClr val="333399"/>
                </a:solidFill>
                <a:latin typeface="Times New Roman"/>
              </a:rPr>
              <a:t>: aprono siti di stoccaggio per le ecoballe e la fos, vecchie discariche per sistemare i rifiuti che periodicamente si accumulano nelle strade per via dei sequestri della magistratura degli impianti cdr e siti di stoccaggio e di gua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3333ff"/>
                </a:solidFill>
                <a:latin typeface="Arial"/>
              </a:rPr>
              <a:t>Sostenibilitá ambientale e giustizia socia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324000" y="2060280"/>
            <a:ext cx="8640720" cy="40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Times New Roman"/>
              </a:rPr>
              <a:t>Produrre e consumare in modo tale che anche estendendo tale modello a tutti gli uomini non si superi la capacitá di carico del pianeta Ter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100" spc="-1" strike="noStrike">
                <a:solidFill>
                  <a:srgbClr val="333399"/>
                </a:solidFill>
                <a:latin typeface="Times New Roman"/>
              </a:rPr>
              <a:t>“</a:t>
            </a:r>
            <a:r>
              <a:rPr b="1" lang="de-DE" sz="2800" spc="-1" strike="noStrike">
                <a:solidFill>
                  <a:srgbClr val="333399"/>
                </a:solidFill>
                <a:latin typeface="Times New Roman"/>
              </a:rPr>
              <a:t>Le persone devono interessarsi delle cose che contano più di quelle che si possono contare” (Daly)                 “più della promozione della felicità che della produzione di merci” (Georgescu-Roege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79280" y="1125000"/>
            <a:ext cx="8785440" cy="602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333399"/>
                </a:solidFill>
                <a:latin typeface="Times New Roman"/>
              </a:rPr>
              <a:t>la raccolta differenziata è a livelli minimi (7-10%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333399"/>
                </a:solidFill>
                <a:latin typeface="Times New Roman"/>
              </a:rPr>
              <a:t>non si sono costruiti impianti di compostaggio o di biog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333399"/>
                </a:solidFill>
                <a:latin typeface="Times New Roman"/>
              </a:rPr>
              <a:t>non c’è un inceneritore funzionante (quello quasi ultimato deve essere modificato per cercare di rispettare le norme), non c´è cdr da bruciare, non ci sono impianti TMB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333399"/>
                </a:solidFill>
                <a:latin typeface="Times New Roman"/>
              </a:rPr>
              <a:t>non si è fatto niente per ridurre la produzione di rifiut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333399"/>
                </a:solidFill>
                <a:latin typeface="Times New Roman"/>
              </a:rPr>
              <a:t>l’apertura di discariche dichiarate definitivamente chiuse e le proroghe dei termini di chiusura delle discariche provvisorie hanno tolto la fiducia nelle istituzion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333399"/>
                </a:solidFill>
                <a:latin typeface="Times New Roman"/>
              </a:rPr>
              <a:t>si sono accumulate milioni di ecoballe che non si sa dove mettere e che hanno reso non operanti gli impianti cd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333399"/>
                </a:solidFill>
                <a:latin typeface="Times New Roman"/>
              </a:rPr>
              <a:t>i camion non possono consegnare la spazzatura agli impianti e quindi non possono prelevare la spazzatura che si accumula nelle strad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title"/>
          </p:nvPr>
        </p:nvSpPr>
        <p:spPr>
          <a:xfrm>
            <a:off x="179280" y="274320"/>
            <a:ext cx="878544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400" spc="-1" strike="noStrike">
                <a:solidFill>
                  <a:srgbClr val="0000ff"/>
                </a:solidFill>
                <a:latin typeface="Arial"/>
              </a:rPr>
              <a:t>in 14 anni di commissariato straordinario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ff"/>
                </a:solidFill>
                <a:latin typeface="Arial"/>
              </a:rPr>
              <a:t>in 14 anni di commissariato straordinari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42472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876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500" spc="-1" strike="noStrike">
                <a:solidFill>
                  <a:srgbClr val="333399"/>
                </a:solidFill>
                <a:latin typeface="Times New Roman"/>
              </a:rPr>
              <a:t>la camorra ha continuato a smaltire rifiuti tossici spesso in discariche chiuse che poi sono state riaperte dai commissari con grandi vantaggi per la camorra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333399"/>
                </a:solidFill>
                <a:latin typeface="Times New Roman"/>
              </a:rPr>
              <a:t>(Negli ultimi 20 anni si può stimare che siano stati smaltiti illegalmente oltre 5 milioni di tonnellate di rifiuti pericolosi in Campani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6461280"/>
            <a:ext cx="765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Legambiente: Rapporto ecomafie 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ff"/>
                </a:solidFill>
                <a:latin typeface="Times New Roman"/>
              </a:rPr>
              <a:t>Come gestire correttamente i rifiuti:</a:t>
            </a:r>
            <a:br>
              <a:rPr sz="4000"/>
            </a:br>
            <a:r>
              <a:rPr b="1" lang="it-IT" sz="4000" spc="-1" strike="noStrike">
                <a:solidFill>
                  <a:srgbClr val="0000ff"/>
                </a:solidFill>
                <a:latin typeface="Times New Roman"/>
              </a:rPr>
              <a:t>1° ridurne la produzio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9528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333399"/>
                </a:solidFill>
                <a:latin typeface="Times New Roman"/>
              </a:rPr>
              <a:t>L’U.E. ha stabilito che bisogna ridurre la produzione di rifiuti </a:t>
            </a:r>
            <a:br>
              <a:rPr sz="3200"/>
            </a:br>
            <a:r>
              <a:rPr b="1" lang="it-IT" sz="3200" spc="-1" strike="noStrike">
                <a:solidFill>
                  <a:srgbClr val="333399"/>
                </a:solidFill>
                <a:latin typeface="Times New Roman"/>
              </a:rPr>
              <a:t>- del 20% entro il 2010 rispetto ai valori del 2000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333399"/>
                </a:solidFill>
                <a:latin typeface="Times New Roman"/>
              </a:rPr>
              <a:t>    </a:t>
            </a:r>
            <a:r>
              <a:rPr b="1" lang="it-IT" sz="3200" spc="-1" strike="noStrike">
                <a:solidFill>
                  <a:srgbClr val="333399"/>
                </a:solidFill>
                <a:latin typeface="Times New Roman"/>
              </a:rPr>
              <a:t>- del 50% entro il 205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333399"/>
                </a:solidFill>
                <a:latin typeface="Times New Roman"/>
              </a:rPr>
              <a:t>Come si può ridurre la produzione di rifiuti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ff"/>
                </a:solidFill>
                <a:latin typeface="Arial"/>
              </a:rPr>
              <a:t>Ridurre la produzione di rifiut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3399"/>
                </a:solidFill>
                <a:latin typeface="Times New Roman"/>
              </a:rPr>
              <a:t>tariffa in proporzione del rifiuto consegna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3399"/>
                </a:solidFill>
                <a:latin typeface="Times New Roman"/>
              </a:rPr>
              <a:t>obbligo di ritirare il vecchio elettrodomestico quando se ne vende uno nuo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3399"/>
                </a:solidFill>
                <a:latin typeface="Times New Roman"/>
              </a:rPr>
              <a:t>tassa sui contenitori a perd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3399"/>
                </a:solidFill>
                <a:latin typeface="Times New Roman"/>
              </a:rPr>
              <a:t>tassa sui prodotti a perd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3399"/>
                </a:solidFill>
                <a:latin typeface="Times New Roman"/>
              </a:rPr>
              <a:t>tassa sugli imballaggi difficilmente smaltibi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3399"/>
                </a:solidFill>
                <a:latin typeface="Times New Roman"/>
              </a:rPr>
              <a:t>marchio di sostenibilità su prodotti e servizi (es. hotel, agriturismi ecc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3399"/>
                </a:solidFill>
                <a:latin typeface="Times New Roman"/>
              </a:rPr>
              <a:t>incentivi al commercio per prodotti alla sp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3399"/>
                </a:solidFill>
                <a:latin typeface="Times New Roman"/>
              </a:rPr>
              <a:t>incentivi alle aziende che cambiano cicli produttiv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3399"/>
                </a:solidFill>
                <a:latin typeface="Times New Roman"/>
              </a:rPr>
              <a:t>incentivi al compostaggio domestic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ff"/>
                </a:solidFill>
                <a:latin typeface="Arial"/>
              </a:rPr>
              <a:t>Prodotti alla spin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cover4"/>
          <p:cNvPicPr/>
          <p:nvPr/>
        </p:nvPicPr>
        <p:blipFill>
          <a:blip r:embed="rId1"/>
          <a:stretch/>
        </p:blipFill>
        <p:spPr>
          <a:xfrm>
            <a:off x="2771640" y="1557360"/>
            <a:ext cx="6156360" cy="41036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468360" y="1700280"/>
            <a:ext cx="223200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3399"/>
                </a:solidFill>
                <a:latin typeface="Times New Roman"/>
              </a:rPr>
              <a:t>detersiv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3399"/>
                </a:solidFill>
                <a:latin typeface="Times New Roman"/>
              </a:rPr>
              <a:t>pas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3399"/>
                </a:solidFill>
                <a:latin typeface="Times New Roman"/>
              </a:rPr>
              <a:t>legum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3399"/>
                </a:solidFill>
                <a:latin typeface="Times New Roman"/>
              </a:rPr>
              <a:t>ri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3399"/>
                </a:solidFill>
                <a:latin typeface="Times New Roman"/>
              </a:rPr>
              <a:t>ol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3399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3399"/>
                </a:solidFill>
                <a:latin typeface="Times New Roman"/>
              </a:rPr>
              <a:t>e acqu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79280" y="453960"/>
            <a:ext cx="8558280" cy="592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omune di Trento: Progetto buon samarita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5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5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Utilizzazione delle derrate non commercializzabili per soggetti bisognosi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5000"/>
              </a:lnSpc>
              <a:spcBef>
                <a:spcPts val="814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r>
              <a:rPr b="1" lang="it-IT" sz="2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ipermercati (prodotti non più commercializzabili perché prossimi alla scadenza o inseriti in imballaggi rovinati)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5000"/>
              </a:lnSpc>
              <a:spcBef>
                <a:spcPts val="814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r>
              <a:rPr b="1" lang="it-IT" sz="2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mense (pasti non somministrati ed ancora commestibili)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5000"/>
              </a:lnSpc>
              <a:spcBef>
                <a:spcPts val="814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r>
              <a:rPr b="1" lang="it-IT" sz="2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catene di ristorazione (alimenti non utilizzati per la preparazione dei pasti o i pasti confezionati e non consumati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81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r>
              <a:rPr b="1" lang="it-IT" sz="2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aziende agro-alimentari (derrate alimentari che, per difetti di produzione o altri motivi, non vengono commercializzate e vengono destinate allo smaltimento)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5T12:41:43Z</dcterms:created>
  <dc:creator>PIO RUSSO KRAUSS</dc:creator>
  <dc:description/>
  <dc:language>en-US</dc:language>
  <cp:lastModifiedBy>chiara russo krauss</cp:lastModifiedBy>
  <dcterms:modified xsi:type="dcterms:W3CDTF">2008-09-24T11:48:55Z</dcterms:modified>
  <cp:revision>9</cp:revision>
  <dc:subject/>
  <dc:title>Diapositiva 1</dc:title>
</cp:coreProperties>
</file>